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A18-A33A-4724-9044-B4CC576A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FE5-0749-4D7A-A7CC-4EE95324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126-98A9-4B91-9BCE-06EB1255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004-DF18-4ADC-BAC0-1CF65580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4C0-B833-4B76-B3C5-91CC9E37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5526-4627-42C7-90A5-88F85401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B31F-2A3A-4B2E-ABCE-D2EA0C9A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FF95-DE91-4F66-AADD-6B74ABC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FB3B-0411-47BE-A7E0-20B9E42D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7191-54F1-4987-8C65-308ADB1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611C-B6A3-4C4D-8F43-9E99763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561-7D18-4CFE-B541-E784E886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8066-D87E-4571-A8ED-6D09780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8CED-9307-493A-B111-BED0284E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7BB2-5865-4BA5-A8DA-F3D3D3E1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29A3-DFAD-4964-8E37-B8B51AD8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22F6-BCAC-4E6E-9160-539FBFC5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56C-53C4-4E78-9DB1-700B31EB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9AA-F40B-4D57-BF90-CD72F4E1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1F6-21BC-4B9B-8110-6AAD35A2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874-F3E0-480F-AC4B-B1D6CBA3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296-8A5E-4853-AF7C-014F1540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A3E-E12C-400C-8C04-4B9EEB3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F4F-1D7D-4104-94E4-BE0AB382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61D-01EB-4844-8ACE-B4E83E73A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3E2C-645F-409E-A2CD-278934628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00240" y="4343040"/>
            <a:ext cx="3886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UT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in DNA Seq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CGG  TTA  CCC  TTA  CCC  GAT  CTA  TTA  CGG  A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CGG  TTA  CTA  TAT  CGG  AAA  GCA  T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576360"/>
            <a:ext cx="79250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3059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153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rigin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AC  CGG  TTA  CCC  GAT  CTA  TTA  CG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A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CGG  TTA  CCC            CTA   TTA  CGG  AT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TCG  GTT  ACC  CGA  TCT  ATT  ACG  GAT  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GGG  TTA  CCC  GAT  CTA  TTA  CGG  A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 CCC  ATT  GGC  GAT  CTA  TTA  CGG  AT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2:41:44Z</dcterms:created>
  <dc:creator>udsd</dc:creator>
  <dc:description/>
  <dc:language>en-US</dc:language>
  <cp:lastModifiedBy>udsd</cp:lastModifiedBy>
  <dcterms:modified xsi:type="dcterms:W3CDTF">2008-05-23T13:09:15Z</dcterms:modified>
  <cp:revision>3</cp:revision>
  <dc:subject/>
  <dc:title>MUTATIONS</dc:title>
</cp:coreProperties>
</file>